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1"/>
          </p:nvPr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2"/>
          </p:nvPr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3"/>
          </p:nvPr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4E695C6-0F24-42B8-AB96-40B3940A3AE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2793960" y="8682120"/>
            <a:ext cx="1270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CF21BD-4EAD-402A-B3F8-373BB3D10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Img"/>
          </p:nvPr>
        </p:nvSpPr>
        <p:spPr>
          <a:xfrm>
            <a:off x="1158480" y="692280"/>
            <a:ext cx="45385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6857672-70D3-47CC-926C-ADC038099DD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70DB69C-10AC-4B0A-8525-EF7BC27472E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094CB53-4306-453D-8AFA-4535EAFB40F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992240" y="639720"/>
            <a:ext cx="2660760" cy="199548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AU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D8C96BD-DDCD-4557-849B-3BD6671668A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992240" y="639720"/>
            <a:ext cx="2660760" cy="199548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AU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44E2670-8398-4D92-87C2-1F22CE7CFDD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00897F9-D460-486F-B663-CF0FA88E470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B56A072-4815-4F7D-A366-725EC74ABA5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4E44CFC-41E2-4380-A43B-B72CFE7CC18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8C070F8-E156-41E2-810E-9CA7F3EC6B9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D33BF44-3857-451B-846E-0C454C16219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59DDEBD-43EC-421A-93D3-D385F8E588B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C3B0F7F-8B31-44FA-974A-DF7C78785BA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77B479C-7EF6-4F6C-8FBE-21D1CA7203A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D871B8D-A62D-4A89-95A5-328FB83A567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B01C1DD-B590-4522-BDC9-46E906007D3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ADB2A66-7B28-4593-BE19-3FDFF1A9EE3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37039D4-3B08-48FB-9164-D44C195E086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A68B8AC-91C1-4D1F-B1A5-C0F9D6EA609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37237FE-8138-4970-A6D7-FCA9FA1EFD2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21100A2-7855-45AE-8E1D-087CCBBCAD3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3BF726F-C0D6-45EE-A934-E7DE03EABAA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82B943-02CC-40EC-88CD-D4235CAA57B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425C0AA-EDB9-4E42-B5AF-8C91EBC3D88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CDED184-19C2-4A5A-993F-6FDE852ED2F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82D7BCE-A3D5-430F-BCD8-A9E9EF31880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3F87B58-4A24-45DB-9079-EE4EA63EC75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10D95F1-F555-49E9-8CB3-0F1281E4ADC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2D65D18-E40C-4954-93C2-2D0A9F9D676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2FDA7C4-4BDE-4467-B84D-65F42BBDE98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C83F1FB-95F7-4E36-BD6F-7BAA80DAF75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951E1A0-DE79-42DA-BFC9-F5246993D94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EDA12D2-2346-43F3-B7B1-059A8AFFA21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D798392-C2CB-4DE7-BC2A-4A64909FD4B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4009586-E20E-49F4-B706-5DEDEA95274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2D70032-B0EE-479D-833E-B16E86C4D76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D5E7249-48E6-457E-97C8-F4ACE92F18F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60F906E-9C81-4BFC-8BE3-762DDD4C119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886F89F-882B-4645-A26B-9C0C80CEBA1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AB769CE-7EBC-4DC5-814C-3A69EAFD8BF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B965-B628-4AB6-A708-F256C78F5F1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962B-F6F3-42E4-A80F-BE77F8D096C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4"/>
          <p:cNvSpPr/>
          <p:nvPr/>
        </p:nvSpPr>
        <p:spPr>
          <a:xfrm>
            <a:off x="412128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8"/>
          <p:cNvSpPr/>
          <p:nvPr/>
        </p:nvSpPr>
        <p:spPr>
          <a:xfrm>
            <a:off x="1004760" y="14050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EC96-7655-48E3-8841-86D4A63B12D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3821-29D9-4C96-A12B-A7A4878AE98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12128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1004760" y="14050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Placeholder 5" descr=""/>
          <p:cNvPicPr/>
          <p:nvPr/>
        </p:nvPicPr>
        <p:blipFill>
          <a:blip r:embed="rId3"/>
          <a:srcRect l="9028" t="0" r="0" b="0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7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0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4CE4-98C9-4606-AB8B-7A5A58C046C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4E47-5E43-4D9F-8C15-562EC4F281F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12128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1004760" y="14050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8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0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01AB-58B4-44A0-9D89-0DD89775DC1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B36F-B8A9-48CF-945E-F4808F49CD6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12128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1004760" y="14050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6" descr=""/>
          <p:cNvPicPr/>
          <p:nvPr/>
        </p:nvPicPr>
        <p:blipFill>
          <a:blip r:embed="rId3"/>
          <a:srcRect l="5173" t="0" r="0" b="0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4AD9-F52B-415A-A8AF-AE4830F836D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65F0-8EF8-4806-91AF-564B503C970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12128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1004760" y="14050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7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8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9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3"/>
          <p:cNvSpPr/>
          <p:nvPr/>
        </p:nvSpPr>
        <p:spPr>
          <a:xfrm>
            <a:off x="4413240" y="641196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SP Fundamentals: Day 2 Agen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1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2B0F-8AEC-44D3-8647-E5E993DDA04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9C5A-5AE3-40B4-9085-2C8BB540AF3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12128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1004760" y="14050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7543-490C-4493-B119-B64133E87AC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305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FADB-DFFB-48D8-8AC0-75318EAB670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412128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8"/>
          <p:cNvSpPr/>
          <p:nvPr/>
        </p:nvSpPr>
        <p:spPr>
          <a:xfrm>
            <a:off x="1004760" y="14050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6039-CED7-45AB-8AB3-7C879EDFF5E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352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090A-938F-4A8D-B4F3-7E23F83808F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412128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8"/>
          <p:cNvSpPr/>
          <p:nvPr/>
        </p:nvSpPr>
        <p:spPr>
          <a:xfrm>
            <a:off x="1004760" y="14050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9"/>
          <p:cNvSpPr/>
          <p:nvPr/>
        </p:nvSpPr>
        <p:spPr>
          <a:xfrm>
            <a:off x="5578560" y="6567480"/>
            <a:ext cx="35654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I - Design Verification - </a:t>
            </a:r>
            <a:fld id="{21EBB5FB-D2A7-412C-BC89-815525306EA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Design%20Ver.%20EX.doc" TargetMode="Externa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0"/>
          <p:cNvSpPr/>
          <p:nvPr/>
        </p:nvSpPr>
        <p:spPr>
          <a:xfrm>
            <a:off x="993600" y="1508040"/>
            <a:ext cx="63421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</a:t>
            </a:r>
            <a:r>
              <a:rPr b="1" lang="en-US" sz="3100" spc="-1" strike="noStrike" baseline="30000">
                <a:solidFill>
                  <a:srgbClr val="000000"/>
                </a:solidFill>
                <a:latin typeface="Arial Narrow"/>
              </a:rPr>
              <a:t>SM</a:t>
            </a: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Design Verificatio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76240" y="82548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bolic Execution Exampl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888480" y="1643040"/>
            <a:ext cx="7410600" cy="4492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gram steps for this example are as follow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3"/>
          <p:cNvSpPr/>
          <p:nvPr/>
        </p:nvSpPr>
        <p:spPr>
          <a:xfrm>
            <a:off x="942840" y="4811760"/>
            <a:ext cx="745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 for inputs A and B is B and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34" descr="s10"/>
          <p:cNvPicPr/>
          <p:nvPr/>
        </p:nvPicPr>
        <p:blipFill>
          <a:blip r:embed="rId1"/>
          <a:stretch/>
        </p:blipFill>
        <p:spPr>
          <a:xfrm>
            <a:off x="1987560" y="2352600"/>
            <a:ext cx="516744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79120" y="823680"/>
            <a:ext cx="78786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bolic Execution: Assess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902880" y="16542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:  symbolic proo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ge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ically involve less work than other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sometimes the only practical way to do a comprehensive verific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: symbolic execu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hard to use, except for algorithmic and substitution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ofs are manual and error-pr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difficult to use with complex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63280" y="8334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cution Tabl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899640" y="165708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xecution table is an orderly way to trace program execu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a manual check of program fl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starts with initial condi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et of variable values is selec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execution step is exami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ry change in variable values is ente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 behavior is checked against the specifi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66520" y="82836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cution Tabl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90288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dvantages of execution tables are that th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si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 reliable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isadvantages of execution tables are that th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only one case at a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time-consu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subject to human err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76240" y="83340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cution Table Proced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89496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use an execution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key program variables and enter them at the top of the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 principal program ste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and enter the initial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e the variable values through each program st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dditional execution-table copies for each cyclic lo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66520" y="8334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cution Table Exercis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896400" y="165096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</a:t>
            </a:r>
            <a:r>
              <a:rPr b="0" lang="en-US" sz="2200" spc="-1" strike="noStrike" u="sng">
                <a:solidFill>
                  <a:srgbClr val="0a50e1"/>
                </a:solidFill>
                <a:uFillTx/>
                <a:latin typeface="Arial"/>
                <a:hlinkClick r:id="rId1"/>
              </a:rPr>
              <a:t>exerci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use an execution table to verify the correctness of the LogIn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a two-cycle scenario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7320" indent="-406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id ID &amp; !Valid P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7320" indent="-406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 timeout error &amp; Valid P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e nMax = 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r up and take 20 minutes to do the verification.  Blank execution tables are in the noteboo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029"/>
          <p:cNvSpPr/>
          <p:nvPr/>
        </p:nvSpPr>
        <p:spPr>
          <a:xfrm>
            <a:off x="4507560" y="5792760"/>
            <a:ext cx="17830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4760" tIns="52200" bIns="522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 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030" descr=""/>
          <p:cNvPicPr/>
          <p:nvPr/>
        </p:nvPicPr>
        <p:blipFill>
          <a:blip r:embed="rId2"/>
          <a:stretch/>
        </p:blipFill>
        <p:spPr>
          <a:xfrm>
            <a:off x="3772080" y="5527800"/>
            <a:ext cx="6490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73000" y="87120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n Execution Table -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Object 5"/>
          <p:cNvGraphicFramePr/>
          <p:nvPr/>
        </p:nvGraphicFramePr>
        <p:xfrm>
          <a:off x="479520" y="1631880"/>
          <a:ext cx="8118360" cy="389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1631880"/>
                    <a:ext cx="8118360" cy="38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71200" y="8334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n Execution Table Discu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890640" y="164124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gram has an err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the design does not require ID to be set to !Valid on a new cycle, the implementation could result in an err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second cycle, a Valid PW could end the test with ID = Valid, PW = Valid, and Fail = tr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ending on implementation, this design omission could result in an incorrect log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63280" y="871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n Execution Table -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Object 8"/>
          <p:cNvGraphicFramePr/>
          <p:nvPr/>
        </p:nvGraphicFramePr>
        <p:xfrm>
          <a:off x="290520" y="1635120"/>
          <a:ext cx="8496360" cy="407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1635120"/>
                    <a:ext cx="849636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63280" y="871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n Execution Table -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Object 8"/>
          <p:cNvGraphicFramePr/>
          <p:nvPr/>
        </p:nvGraphicFramePr>
        <p:xfrm>
          <a:off x="279360" y="1881360"/>
          <a:ext cx="8496360" cy="40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881360"/>
                    <a:ext cx="849636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79120" y="82836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Topic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02880" y="16430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lecture provides a survey of several design verification topic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ons for design ver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verification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bolic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t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checking and trace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ness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actice is required to consistently and effectively use these verification techn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7040" y="83016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e Check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899640" y="1645920"/>
            <a:ext cx="78044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419040" indent="-41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 checking involves the following five ste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ine the program to determine its behavior categor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these categories, identify the cases to chec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the cases to ensure that they cover all possible situat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ine program behavior for each c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every case has been verified, program behavior has been verifi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71200" y="8236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e T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899640" y="16412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e tables are similar to execution tables, but more gene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e tables examine general program behavior, rather than verifying individual ca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e tables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 che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85600" y="8236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e Table Proced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89496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2000"/>
          </a:bodyPr>
          <a:p>
            <a:pPr marL="385200" indent="-385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race table procedure is the same as that for the execution table, plus three ste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3640" indent="-385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key program variables and enter them at the top of the t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3640" indent="-385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 principal program ste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3640" indent="-385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Identify symbolic execution possibil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3640" indent="-385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Define all of the possible cases and select those to che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3640" indent="-385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and enter the initial condi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3640" indent="-385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e the variable values through each program ste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3640" indent="-385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dditional trace-table copies for each cyclic loo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3640" indent="-385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For multi-cycle loops, group intermediate steps if their results are obvio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71200" y="852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e Table Examp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998280" y="1700280"/>
            <a:ext cx="741348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learSpaces routine clears leading and trailing spaces from an input string and sets the value of st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6"/>
          <p:cNvSpPr/>
          <p:nvPr/>
        </p:nvSpPr>
        <p:spPr>
          <a:xfrm>
            <a:off x="998640" y="5219640"/>
            <a:ext cx="7681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example omits the Length = 0 test and clears trailing spaces.  It is in the textbook, Table 12.5 (page 26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23" descr="s23"/>
          <p:cNvPicPr/>
          <p:nvPr/>
        </p:nvPicPr>
        <p:blipFill>
          <a:blip r:embed="rId1"/>
          <a:stretch/>
        </p:blipFill>
        <p:spPr>
          <a:xfrm>
            <a:off x="1019160" y="2585880"/>
            <a:ext cx="7723080" cy="25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76240" y="8348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e Table Cas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912960" y="16444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ymbolic execution parameters are as follow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ing length: Length &gt;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ding spaces: 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space characters: 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ling spaces: 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ssible cases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 or N or T = 1 while the others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 or N or T &gt; 1 while the others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 or N or T = 0 while the others &gt;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 and N and T &gt;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76240" y="8348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e Table Cas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898560" y="16542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mprehensive test would check all ca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would also check for any limitations on the upper limit values of L, N, and 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mmon trace-table strategy is to pick a specific set of values for each case and then generalize the resul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example for trailing spaces shows the approach with L and N and T &gt; 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71200" y="82044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ling Space Example -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3"/>
          <p:cNvGrpSpPr/>
          <p:nvPr/>
        </p:nvGrpSpPr>
        <p:grpSpPr>
          <a:xfrm>
            <a:off x="747720" y="1558800"/>
            <a:ext cx="7898040" cy="4934160"/>
            <a:chOff x="747720" y="1558800"/>
            <a:chExt cx="7898040" cy="4934160"/>
          </a:xfrm>
        </p:grpSpPr>
        <p:sp>
          <p:nvSpPr>
            <p:cNvPr id="504" name="Rectangle 4"/>
            <p:cNvSpPr/>
            <p:nvPr/>
          </p:nvSpPr>
          <p:spPr>
            <a:xfrm>
              <a:off x="765000" y="1558800"/>
              <a:ext cx="7829640" cy="492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5"/>
            <p:cNvSpPr/>
            <p:nvPr/>
          </p:nvSpPr>
          <p:spPr>
            <a:xfrm>
              <a:off x="763560" y="1977840"/>
              <a:ext cx="783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6"/>
            <p:cNvSpPr/>
            <p:nvPr/>
          </p:nvSpPr>
          <p:spPr>
            <a:xfrm>
              <a:off x="763560" y="2435040"/>
              <a:ext cx="783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7"/>
            <p:cNvSpPr/>
            <p:nvPr/>
          </p:nvSpPr>
          <p:spPr>
            <a:xfrm>
              <a:off x="763560" y="3062160"/>
              <a:ext cx="783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8"/>
            <p:cNvSpPr/>
            <p:nvPr/>
          </p:nvSpPr>
          <p:spPr>
            <a:xfrm>
              <a:off x="763560" y="3558960"/>
              <a:ext cx="783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9"/>
            <p:cNvSpPr/>
            <p:nvPr/>
          </p:nvSpPr>
          <p:spPr>
            <a:xfrm>
              <a:off x="763560" y="4073400"/>
              <a:ext cx="783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0"/>
            <p:cNvSpPr/>
            <p:nvPr/>
          </p:nvSpPr>
          <p:spPr>
            <a:xfrm>
              <a:off x="763560" y="5556240"/>
              <a:ext cx="783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1"/>
            <p:cNvSpPr/>
            <p:nvPr/>
          </p:nvSpPr>
          <p:spPr>
            <a:xfrm>
              <a:off x="763560" y="6054840"/>
              <a:ext cx="783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12"/>
            <p:cNvSpPr/>
            <p:nvPr/>
          </p:nvSpPr>
          <p:spPr>
            <a:xfrm>
              <a:off x="937080" y="1616040"/>
              <a:ext cx="29937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ycle 1: L = 1, N = 2, T =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3"/>
            <p:cNvSpPr/>
            <p:nvPr/>
          </p:nvSpPr>
          <p:spPr>
            <a:xfrm>
              <a:off x="4076280" y="1623960"/>
              <a:ext cx="4569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earSpaces(var Input: string; State: in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14"/>
            <p:cNvSpPr/>
            <p:nvPr/>
          </p:nvSpPr>
          <p:spPr>
            <a:xfrm>
              <a:off x="1208160" y="1982880"/>
              <a:ext cx="0" cy="451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15"/>
            <p:cNvSpPr/>
            <p:nvPr/>
          </p:nvSpPr>
          <p:spPr>
            <a:xfrm flipH="1">
              <a:off x="7881480" y="1969920"/>
              <a:ext cx="1800" cy="448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16"/>
            <p:cNvSpPr/>
            <p:nvPr/>
          </p:nvSpPr>
          <p:spPr>
            <a:xfrm>
              <a:off x="6980400" y="1982880"/>
              <a:ext cx="0" cy="451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7"/>
            <p:cNvSpPr/>
            <p:nvPr/>
          </p:nvSpPr>
          <p:spPr>
            <a:xfrm>
              <a:off x="6086520" y="1982880"/>
              <a:ext cx="0" cy="451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8"/>
            <p:cNvSpPr/>
            <p:nvPr/>
          </p:nvSpPr>
          <p:spPr>
            <a:xfrm>
              <a:off x="4943520" y="1982880"/>
              <a:ext cx="0" cy="451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9"/>
            <p:cNvSpPr/>
            <p:nvPr/>
          </p:nvSpPr>
          <p:spPr>
            <a:xfrm>
              <a:off x="747720" y="2068560"/>
              <a:ext cx="314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20"/>
            <p:cNvSpPr/>
            <p:nvPr/>
          </p:nvSpPr>
          <p:spPr>
            <a:xfrm>
              <a:off x="861840" y="2582640"/>
              <a:ext cx="314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21"/>
            <p:cNvSpPr/>
            <p:nvPr/>
          </p:nvSpPr>
          <p:spPr>
            <a:xfrm>
              <a:off x="849240" y="3128760"/>
              <a:ext cx="314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22"/>
            <p:cNvSpPr/>
            <p:nvPr/>
          </p:nvSpPr>
          <p:spPr>
            <a:xfrm>
              <a:off x="836640" y="3643200"/>
              <a:ext cx="314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23"/>
            <p:cNvSpPr/>
            <p:nvPr/>
          </p:nvSpPr>
          <p:spPr>
            <a:xfrm>
              <a:off x="825480" y="4138560"/>
              <a:ext cx="314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24"/>
            <p:cNvSpPr/>
            <p:nvPr/>
          </p:nvSpPr>
          <p:spPr>
            <a:xfrm>
              <a:off x="838080" y="4665600"/>
              <a:ext cx="314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25"/>
            <p:cNvSpPr/>
            <p:nvPr/>
          </p:nvSpPr>
          <p:spPr>
            <a:xfrm>
              <a:off x="831960" y="5116320"/>
              <a:ext cx="314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26"/>
            <p:cNvSpPr/>
            <p:nvPr/>
          </p:nvSpPr>
          <p:spPr>
            <a:xfrm>
              <a:off x="1254960" y="2081160"/>
              <a:ext cx="14968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stru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27"/>
            <p:cNvSpPr/>
            <p:nvPr/>
          </p:nvSpPr>
          <p:spPr>
            <a:xfrm>
              <a:off x="4894200" y="2074680"/>
              <a:ext cx="125784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d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28"/>
            <p:cNvSpPr/>
            <p:nvPr/>
          </p:nvSpPr>
          <p:spPr>
            <a:xfrm>
              <a:off x="6152040" y="2081160"/>
              <a:ext cx="7488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29"/>
            <p:cNvSpPr/>
            <p:nvPr/>
          </p:nvSpPr>
          <p:spPr>
            <a:xfrm>
              <a:off x="6990120" y="2074680"/>
              <a:ext cx="951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30"/>
            <p:cNvSpPr/>
            <p:nvPr/>
          </p:nvSpPr>
          <p:spPr>
            <a:xfrm>
              <a:off x="7885440" y="2081160"/>
              <a:ext cx="745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31"/>
            <p:cNvSpPr/>
            <p:nvPr/>
          </p:nvSpPr>
          <p:spPr>
            <a:xfrm>
              <a:off x="1215720" y="2500200"/>
              <a:ext cx="269028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:= length(Input)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te :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32"/>
            <p:cNvSpPr/>
            <p:nvPr/>
          </p:nvSpPr>
          <p:spPr>
            <a:xfrm>
              <a:off x="6095160" y="2620800"/>
              <a:ext cx="773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‘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B 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33"/>
            <p:cNvSpPr/>
            <p:nvPr/>
          </p:nvSpPr>
          <p:spPr>
            <a:xfrm>
              <a:off x="7238880" y="2614680"/>
              <a:ext cx="314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34"/>
            <p:cNvSpPr/>
            <p:nvPr/>
          </p:nvSpPr>
          <p:spPr>
            <a:xfrm>
              <a:off x="8056440" y="2601720"/>
              <a:ext cx="314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35"/>
            <p:cNvSpPr/>
            <p:nvPr/>
          </p:nvSpPr>
          <p:spPr>
            <a:xfrm>
              <a:off x="1213200" y="3147840"/>
              <a:ext cx="872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pe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36"/>
            <p:cNvSpPr/>
            <p:nvPr/>
          </p:nvSpPr>
          <p:spPr>
            <a:xfrm>
              <a:off x="1200600" y="3643200"/>
              <a:ext cx="25549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f Input[Length] = ‘ 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37"/>
            <p:cNvSpPr/>
            <p:nvPr/>
          </p:nvSpPr>
          <p:spPr>
            <a:xfrm>
              <a:off x="1200600" y="4176720"/>
              <a:ext cx="28476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:= Length -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38"/>
            <p:cNvSpPr/>
            <p:nvPr/>
          </p:nvSpPr>
          <p:spPr>
            <a:xfrm>
              <a:off x="1205640" y="4653000"/>
              <a:ext cx="34527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f State &lt; 2 State:=State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39"/>
            <p:cNvSpPr/>
            <p:nvPr/>
          </p:nvSpPr>
          <p:spPr>
            <a:xfrm>
              <a:off x="1214280" y="5122800"/>
              <a:ext cx="19497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lse State :=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40"/>
            <p:cNvSpPr/>
            <p:nvPr/>
          </p:nvSpPr>
          <p:spPr>
            <a:xfrm>
              <a:off x="1215000" y="5618160"/>
              <a:ext cx="29358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til State=3 or Length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41"/>
            <p:cNvSpPr/>
            <p:nvPr/>
          </p:nvSpPr>
          <p:spPr>
            <a:xfrm>
              <a:off x="763560" y="5067360"/>
              <a:ext cx="783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42"/>
            <p:cNvSpPr/>
            <p:nvPr/>
          </p:nvSpPr>
          <p:spPr>
            <a:xfrm>
              <a:off x="763560" y="4581360"/>
              <a:ext cx="783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5600" y="83484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ling Space Exampl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893520" y="1654200"/>
            <a:ext cx="76150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using a trace table, it is essential to determine precisely what the computer would do for each ste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example, the value of Input[Length] is indeterminate because the last character of the string is at Length -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a def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correcting this defect, the trace table is as shown in the next sli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71200" y="82044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e Table Example:  Cycle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812880" y="1549440"/>
            <a:ext cx="7829640" cy="492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4"/>
          <p:cNvSpPr/>
          <p:nvPr/>
        </p:nvSpPr>
        <p:spPr>
          <a:xfrm>
            <a:off x="811080" y="196848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5"/>
          <p:cNvSpPr/>
          <p:nvPr/>
        </p:nvSpPr>
        <p:spPr>
          <a:xfrm>
            <a:off x="811080" y="242568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6"/>
          <p:cNvSpPr/>
          <p:nvPr/>
        </p:nvSpPr>
        <p:spPr>
          <a:xfrm>
            <a:off x="811080" y="305280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7"/>
          <p:cNvSpPr/>
          <p:nvPr/>
        </p:nvSpPr>
        <p:spPr>
          <a:xfrm>
            <a:off x="811080" y="354960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"/>
          <p:cNvSpPr/>
          <p:nvPr/>
        </p:nvSpPr>
        <p:spPr>
          <a:xfrm>
            <a:off x="811080" y="406404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9"/>
          <p:cNvSpPr/>
          <p:nvPr/>
        </p:nvSpPr>
        <p:spPr>
          <a:xfrm>
            <a:off x="811080" y="554688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0"/>
          <p:cNvSpPr/>
          <p:nvPr/>
        </p:nvSpPr>
        <p:spPr>
          <a:xfrm>
            <a:off x="811080" y="604512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1"/>
          <p:cNvSpPr/>
          <p:nvPr/>
        </p:nvSpPr>
        <p:spPr>
          <a:xfrm>
            <a:off x="984600" y="1606680"/>
            <a:ext cx="2993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 1: L = 1, N = 2, T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2"/>
          <p:cNvSpPr/>
          <p:nvPr/>
        </p:nvSpPr>
        <p:spPr>
          <a:xfrm>
            <a:off x="4124160" y="1600200"/>
            <a:ext cx="4569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rSpaces(var Input: string; State: 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3"/>
          <p:cNvSpPr/>
          <p:nvPr/>
        </p:nvSpPr>
        <p:spPr>
          <a:xfrm>
            <a:off x="1255680" y="1973160"/>
            <a:ext cx="0" cy="45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4"/>
          <p:cNvSpPr/>
          <p:nvPr/>
        </p:nvSpPr>
        <p:spPr>
          <a:xfrm flipH="1">
            <a:off x="7929720" y="1960560"/>
            <a:ext cx="1440" cy="448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5"/>
          <p:cNvSpPr/>
          <p:nvPr/>
        </p:nvSpPr>
        <p:spPr>
          <a:xfrm>
            <a:off x="7027920" y="1973160"/>
            <a:ext cx="0" cy="45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6"/>
          <p:cNvSpPr/>
          <p:nvPr/>
        </p:nvSpPr>
        <p:spPr>
          <a:xfrm>
            <a:off x="6134040" y="1973160"/>
            <a:ext cx="0" cy="45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7"/>
          <p:cNvSpPr/>
          <p:nvPr/>
        </p:nvSpPr>
        <p:spPr>
          <a:xfrm>
            <a:off x="4991040" y="1973160"/>
            <a:ext cx="0" cy="45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8"/>
          <p:cNvSpPr/>
          <p:nvPr/>
        </p:nvSpPr>
        <p:spPr>
          <a:xfrm>
            <a:off x="795240" y="205884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9"/>
          <p:cNvSpPr/>
          <p:nvPr/>
        </p:nvSpPr>
        <p:spPr>
          <a:xfrm>
            <a:off x="909720" y="257328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20"/>
          <p:cNvSpPr/>
          <p:nvPr/>
        </p:nvSpPr>
        <p:spPr>
          <a:xfrm>
            <a:off x="896760" y="311940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21"/>
          <p:cNvSpPr/>
          <p:nvPr/>
        </p:nvSpPr>
        <p:spPr>
          <a:xfrm>
            <a:off x="884160" y="363384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2"/>
          <p:cNvSpPr/>
          <p:nvPr/>
        </p:nvSpPr>
        <p:spPr>
          <a:xfrm>
            <a:off x="873000" y="412920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3"/>
          <p:cNvSpPr/>
          <p:nvPr/>
        </p:nvSpPr>
        <p:spPr>
          <a:xfrm>
            <a:off x="885960" y="465624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4"/>
          <p:cNvSpPr/>
          <p:nvPr/>
        </p:nvSpPr>
        <p:spPr>
          <a:xfrm>
            <a:off x="879480" y="510696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5"/>
          <p:cNvSpPr/>
          <p:nvPr/>
        </p:nvSpPr>
        <p:spPr>
          <a:xfrm>
            <a:off x="1302480" y="2071800"/>
            <a:ext cx="14968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6"/>
          <p:cNvSpPr/>
          <p:nvPr/>
        </p:nvSpPr>
        <p:spPr>
          <a:xfrm>
            <a:off x="4941720" y="2065320"/>
            <a:ext cx="12578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7"/>
          <p:cNvSpPr/>
          <p:nvPr/>
        </p:nvSpPr>
        <p:spPr>
          <a:xfrm>
            <a:off x="6199560" y="2071800"/>
            <a:ext cx="7488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8"/>
          <p:cNvSpPr/>
          <p:nvPr/>
        </p:nvSpPr>
        <p:spPr>
          <a:xfrm>
            <a:off x="7038000" y="2065320"/>
            <a:ext cx="951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9"/>
          <p:cNvSpPr/>
          <p:nvPr/>
        </p:nvSpPr>
        <p:spPr>
          <a:xfrm>
            <a:off x="7932960" y="2071800"/>
            <a:ext cx="7455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0"/>
          <p:cNvSpPr/>
          <p:nvPr/>
        </p:nvSpPr>
        <p:spPr>
          <a:xfrm>
            <a:off x="1263240" y="2490840"/>
            <a:ext cx="26902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 := length(Input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: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1"/>
          <p:cNvSpPr/>
          <p:nvPr/>
        </p:nvSpPr>
        <p:spPr>
          <a:xfrm>
            <a:off x="6143040" y="2611440"/>
            <a:ext cx="773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2"/>
          <p:cNvSpPr/>
          <p:nvPr/>
        </p:nvSpPr>
        <p:spPr>
          <a:xfrm>
            <a:off x="7286760" y="260496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3"/>
          <p:cNvSpPr/>
          <p:nvPr/>
        </p:nvSpPr>
        <p:spPr>
          <a:xfrm>
            <a:off x="8104320" y="259236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4"/>
          <p:cNvSpPr/>
          <p:nvPr/>
        </p:nvSpPr>
        <p:spPr>
          <a:xfrm>
            <a:off x="1260720" y="3138480"/>
            <a:ext cx="872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35"/>
          <p:cNvSpPr/>
          <p:nvPr/>
        </p:nvSpPr>
        <p:spPr>
          <a:xfrm>
            <a:off x="1248480" y="3633840"/>
            <a:ext cx="2757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Input[Length-1] = 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6"/>
          <p:cNvSpPr/>
          <p:nvPr/>
        </p:nvSpPr>
        <p:spPr>
          <a:xfrm>
            <a:off x="1248120" y="4167360"/>
            <a:ext cx="28476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 := Length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37"/>
          <p:cNvSpPr/>
          <p:nvPr/>
        </p:nvSpPr>
        <p:spPr>
          <a:xfrm>
            <a:off x="5203800" y="3639960"/>
            <a:ext cx="6192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38"/>
          <p:cNvSpPr/>
          <p:nvPr/>
        </p:nvSpPr>
        <p:spPr>
          <a:xfrm>
            <a:off x="1253520" y="4643280"/>
            <a:ext cx="3452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State &lt; 2 State:=State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9"/>
          <p:cNvSpPr/>
          <p:nvPr/>
        </p:nvSpPr>
        <p:spPr>
          <a:xfrm>
            <a:off x="1262160" y="5113440"/>
            <a:ext cx="1949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 State :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0"/>
          <p:cNvSpPr/>
          <p:nvPr/>
        </p:nvSpPr>
        <p:spPr>
          <a:xfrm>
            <a:off x="7272360" y="416232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1"/>
          <p:cNvSpPr/>
          <p:nvPr/>
        </p:nvSpPr>
        <p:spPr>
          <a:xfrm>
            <a:off x="5245200" y="4638600"/>
            <a:ext cx="6192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8116920" y="464328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3"/>
          <p:cNvSpPr/>
          <p:nvPr/>
        </p:nvSpPr>
        <p:spPr>
          <a:xfrm>
            <a:off x="1262880" y="5608800"/>
            <a:ext cx="29358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il State=3 or Length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44"/>
          <p:cNvSpPr/>
          <p:nvPr/>
        </p:nvSpPr>
        <p:spPr>
          <a:xfrm>
            <a:off x="5178600" y="5621400"/>
            <a:ext cx="707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45"/>
          <p:cNvSpPr/>
          <p:nvPr/>
        </p:nvSpPr>
        <p:spPr>
          <a:xfrm>
            <a:off x="811080" y="505764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6"/>
          <p:cNvSpPr/>
          <p:nvPr/>
        </p:nvSpPr>
        <p:spPr>
          <a:xfrm>
            <a:off x="811080" y="457200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7"/>
          <p:cNvSpPr/>
          <p:nvPr/>
        </p:nvSpPr>
        <p:spPr>
          <a:xfrm>
            <a:off x="876240" y="560556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71200" y="82044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e Table Example:  Cycle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798480" y="1549440"/>
            <a:ext cx="7829640" cy="492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4"/>
          <p:cNvSpPr/>
          <p:nvPr/>
        </p:nvSpPr>
        <p:spPr>
          <a:xfrm>
            <a:off x="797040" y="1968480"/>
            <a:ext cx="783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797040" y="2425680"/>
            <a:ext cx="783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6"/>
          <p:cNvSpPr/>
          <p:nvPr/>
        </p:nvSpPr>
        <p:spPr>
          <a:xfrm>
            <a:off x="797040" y="3052800"/>
            <a:ext cx="783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7"/>
          <p:cNvSpPr/>
          <p:nvPr/>
        </p:nvSpPr>
        <p:spPr>
          <a:xfrm>
            <a:off x="797040" y="3549600"/>
            <a:ext cx="783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797040" y="4064040"/>
            <a:ext cx="783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9"/>
          <p:cNvSpPr/>
          <p:nvPr/>
        </p:nvSpPr>
        <p:spPr>
          <a:xfrm>
            <a:off x="797040" y="5546880"/>
            <a:ext cx="783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0"/>
          <p:cNvSpPr/>
          <p:nvPr/>
        </p:nvSpPr>
        <p:spPr>
          <a:xfrm>
            <a:off x="797040" y="6045120"/>
            <a:ext cx="783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1"/>
          <p:cNvSpPr/>
          <p:nvPr/>
        </p:nvSpPr>
        <p:spPr>
          <a:xfrm>
            <a:off x="970200" y="1606680"/>
            <a:ext cx="2993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 2: L = 1, N = 2, T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2"/>
          <p:cNvSpPr/>
          <p:nvPr/>
        </p:nvSpPr>
        <p:spPr>
          <a:xfrm>
            <a:off x="4109760" y="1600200"/>
            <a:ext cx="4569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rSpaces(var Input: string; State: 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"/>
          <p:cNvSpPr/>
          <p:nvPr/>
        </p:nvSpPr>
        <p:spPr>
          <a:xfrm>
            <a:off x="1241280" y="1973160"/>
            <a:ext cx="0" cy="45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4"/>
          <p:cNvSpPr/>
          <p:nvPr/>
        </p:nvSpPr>
        <p:spPr>
          <a:xfrm flipH="1">
            <a:off x="7915320" y="1960560"/>
            <a:ext cx="1440" cy="448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5"/>
          <p:cNvSpPr/>
          <p:nvPr/>
        </p:nvSpPr>
        <p:spPr>
          <a:xfrm>
            <a:off x="7013520" y="1973160"/>
            <a:ext cx="0" cy="45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6"/>
          <p:cNvSpPr/>
          <p:nvPr/>
        </p:nvSpPr>
        <p:spPr>
          <a:xfrm>
            <a:off x="6119640" y="1973160"/>
            <a:ext cx="0" cy="45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7"/>
          <p:cNvSpPr/>
          <p:nvPr/>
        </p:nvSpPr>
        <p:spPr>
          <a:xfrm>
            <a:off x="4976640" y="1973160"/>
            <a:ext cx="0" cy="45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8"/>
          <p:cNvSpPr/>
          <p:nvPr/>
        </p:nvSpPr>
        <p:spPr>
          <a:xfrm>
            <a:off x="781200" y="205884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9"/>
          <p:cNvSpPr/>
          <p:nvPr/>
        </p:nvSpPr>
        <p:spPr>
          <a:xfrm>
            <a:off x="895320" y="257328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20"/>
          <p:cNvSpPr/>
          <p:nvPr/>
        </p:nvSpPr>
        <p:spPr>
          <a:xfrm>
            <a:off x="882720" y="311940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1"/>
          <p:cNvSpPr/>
          <p:nvPr/>
        </p:nvSpPr>
        <p:spPr>
          <a:xfrm>
            <a:off x="870120" y="363384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2"/>
          <p:cNvSpPr/>
          <p:nvPr/>
        </p:nvSpPr>
        <p:spPr>
          <a:xfrm>
            <a:off x="858960" y="412920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3"/>
          <p:cNvSpPr/>
          <p:nvPr/>
        </p:nvSpPr>
        <p:spPr>
          <a:xfrm>
            <a:off x="871560" y="465624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4"/>
          <p:cNvSpPr/>
          <p:nvPr/>
        </p:nvSpPr>
        <p:spPr>
          <a:xfrm>
            <a:off x="865080" y="510696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5"/>
          <p:cNvSpPr/>
          <p:nvPr/>
        </p:nvSpPr>
        <p:spPr>
          <a:xfrm>
            <a:off x="1288440" y="2071800"/>
            <a:ext cx="14968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6"/>
          <p:cNvSpPr/>
          <p:nvPr/>
        </p:nvSpPr>
        <p:spPr>
          <a:xfrm>
            <a:off x="4927320" y="2065320"/>
            <a:ext cx="12578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7"/>
          <p:cNvSpPr/>
          <p:nvPr/>
        </p:nvSpPr>
        <p:spPr>
          <a:xfrm>
            <a:off x="6185160" y="2071800"/>
            <a:ext cx="7488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8"/>
          <p:cNvSpPr/>
          <p:nvPr/>
        </p:nvSpPr>
        <p:spPr>
          <a:xfrm>
            <a:off x="7023600" y="2065320"/>
            <a:ext cx="951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9"/>
          <p:cNvSpPr/>
          <p:nvPr/>
        </p:nvSpPr>
        <p:spPr>
          <a:xfrm>
            <a:off x="7918560" y="2071800"/>
            <a:ext cx="7455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0"/>
          <p:cNvSpPr/>
          <p:nvPr/>
        </p:nvSpPr>
        <p:spPr>
          <a:xfrm>
            <a:off x="1248840" y="2490840"/>
            <a:ext cx="26902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 := length(Input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: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1"/>
          <p:cNvSpPr/>
          <p:nvPr/>
        </p:nvSpPr>
        <p:spPr>
          <a:xfrm>
            <a:off x="6129360" y="2611440"/>
            <a:ext cx="187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2"/>
          <p:cNvSpPr/>
          <p:nvPr/>
        </p:nvSpPr>
        <p:spPr>
          <a:xfrm>
            <a:off x="7272360" y="2604960"/>
            <a:ext cx="187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33"/>
          <p:cNvSpPr/>
          <p:nvPr/>
        </p:nvSpPr>
        <p:spPr>
          <a:xfrm>
            <a:off x="8089920" y="2592360"/>
            <a:ext cx="187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34"/>
          <p:cNvSpPr/>
          <p:nvPr/>
        </p:nvSpPr>
        <p:spPr>
          <a:xfrm>
            <a:off x="1246680" y="3138480"/>
            <a:ext cx="872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35"/>
          <p:cNvSpPr/>
          <p:nvPr/>
        </p:nvSpPr>
        <p:spPr>
          <a:xfrm>
            <a:off x="1234440" y="3633840"/>
            <a:ext cx="2757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Input[Length-1] = 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36"/>
          <p:cNvSpPr/>
          <p:nvPr/>
        </p:nvSpPr>
        <p:spPr>
          <a:xfrm>
            <a:off x="1233720" y="4167360"/>
            <a:ext cx="28476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 := Length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37"/>
          <p:cNvSpPr/>
          <p:nvPr/>
        </p:nvSpPr>
        <p:spPr>
          <a:xfrm>
            <a:off x="5189400" y="3639960"/>
            <a:ext cx="707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38"/>
          <p:cNvSpPr/>
          <p:nvPr/>
        </p:nvSpPr>
        <p:spPr>
          <a:xfrm>
            <a:off x="1239120" y="4643280"/>
            <a:ext cx="3452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State &lt; 2 State:=State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9"/>
          <p:cNvSpPr/>
          <p:nvPr/>
        </p:nvSpPr>
        <p:spPr>
          <a:xfrm>
            <a:off x="1247760" y="5113440"/>
            <a:ext cx="1949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 State :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40"/>
          <p:cNvSpPr/>
          <p:nvPr/>
        </p:nvSpPr>
        <p:spPr>
          <a:xfrm>
            <a:off x="7257960" y="4162320"/>
            <a:ext cx="187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41"/>
          <p:cNvSpPr/>
          <p:nvPr/>
        </p:nvSpPr>
        <p:spPr>
          <a:xfrm>
            <a:off x="5230800" y="4638600"/>
            <a:ext cx="187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2"/>
          <p:cNvSpPr/>
          <p:nvPr/>
        </p:nvSpPr>
        <p:spPr>
          <a:xfrm>
            <a:off x="8102520" y="4643280"/>
            <a:ext cx="187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43"/>
          <p:cNvSpPr/>
          <p:nvPr/>
        </p:nvSpPr>
        <p:spPr>
          <a:xfrm>
            <a:off x="1248480" y="5608800"/>
            <a:ext cx="29358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il State=3 or Length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44"/>
          <p:cNvSpPr/>
          <p:nvPr/>
        </p:nvSpPr>
        <p:spPr>
          <a:xfrm>
            <a:off x="5164200" y="5621400"/>
            <a:ext cx="6192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45"/>
          <p:cNvSpPr/>
          <p:nvPr/>
        </p:nvSpPr>
        <p:spPr>
          <a:xfrm>
            <a:off x="797040" y="5057640"/>
            <a:ext cx="783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46"/>
          <p:cNvSpPr/>
          <p:nvPr/>
        </p:nvSpPr>
        <p:spPr>
          <a:xfrm>
            <a:off x="797040" y="4572000"/>
            <a:ext cx="783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47"/>
          <p:cNvSpPr/>
          <p:nvPr/>
        </p:nvSpPr>
        <p:spPr>
          <a:xfrm>
            <a:off x="6257160" y="3135240"/>
            <a:ext cx="5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8"/>
          <p:cNvSpPr/>
          <p:nvPr/>
        </p:nvSpPr>
        <p:spPr>
          <a:xfrm>
            <a:off x="7358040" y="3149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49"/>
          <p:cNvSpPr/>
          <p:nvPr/>
        </p:nvSpPr>
        <p:spPr>
          <a:xfrm>
            <a:off x="8229600" y="3135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0"/>
          <p:cNvSpPr/>
          <p:nvPr/>
        </p:nvSpPr>
        <p:spPr>
          <a:xfrm>
            <a:off x="8272440" y="51213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51"/>
          <p:cNvSpPr/>
          <p:nvPr/>
        </p:nvSpPr>
        <p:spPr>
          <a:xfrm>
            <a:off x="851040" y="562752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7300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for Design Verification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9496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hard to eliminate many design defects just by making process chang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lists and a structured review process can improve code-review yiel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reviews with checklists are also helpful, but not suffici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hecklist item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Is module logic correct?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annot be confirmed by scanning the specification templ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76240" y="844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e Table Discu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898560" y="16542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, carefully check the initial conditions to ensure that they are se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y the progra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, double-check the trace table for errors and omiss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, after completing each case, check behavior for different parameter val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the State := 3 step for the trace-table case with T trailing spaces, is shown on the next sli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80920" y="830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e Table Example:  Cycle 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812880" y="1549440"/>
            <a:ext cx="7829640" cy="492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4"/>
          <p:cNvSpPr/>
          <p:nvPr/>
        </p:nvSpPr>
        <p:spPr>
          <a:xfrm>
            <a:off x="811080" y="196848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5"/>
          <p:cNvSpPr/>
          <p:nvPr/>
        </p:nvSpPr>
        <p:spPr>
          <a:xfrm>
            <a:off x="811080" y="242568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6"/>
          <p:cNvSpPr/>
          <p:nvPr/>
        </p:nvSpPr>
        <p:spPr>
          <a:xfrm>
            <a:off x="811080" y="305280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7"/>
          <p:cNvSpPr/>
          <p:nvPr/>
        </p:nvSpPr>
        <p:spPr>
          <a:xfrm>
            <a:off x="811080" y="354960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8"/>
          <p:cNvSpPr/>
          <p:nvPr/>
        </p:nvSpPr>
        <p:spPr>
          <a:xfrm>
            <a:off x="811080" y="406404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9"/>
          <p:cNvSpPr/>
          <p:nvPr/>
        </p:nvSpPr>
        <p:spPr>
          <a:xfrm>
            <a:off x="811080" y="554688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0"/>
          <p:cNvSpPr/>
          <p:nvPr/>
        </p:nvSpPr>
        <p:spPr>
          <a:xfrm>
            <a:off x="811080" y="604512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1"/>
          <p:cNvSpPr/>
          <p:nvPr/>
        </p:nvSpPr>
        <p:spPr>
          <a:xfrm>
            <a:off x="983520" y="1606680"/>
            <a:ext cx="30211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 T: L = 1, N = 2, T =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2"/>
          <p:cNvSpPr/>
          <p:nvPr/>
        </p:nvSpPr>
        <p:spPr>
          <a:xfrm>
            <a:off x="4081320" y="1628640"/>
            <a:ext cx="4569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rSpaces(var Input: string; State: 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13"/>
          <p:cNvSpPr/>
          <p:nvPr/>
        </p:nvSpPr>
        <p:spPr>
          <a:xfrm>
            <a:off x="1255680" y="1973160"/>
            <a:ext cx="0" cy="45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14"/>
          <p:cNvSpPr/>
          <p:nvPr/>
        </p:nvSpPr>
        <p:spPr>
          <a:xfrm flipH="1">
            <a:off x="7929720" y="1960560"/>
            <a:ext cx="1440" cy="448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5"/>
          <p:cNvSpPr/>
          <p:nvPr/>
        </p:nvSpPr>
        <p:spPr>
          <a:xfrm>
            <a:off x="7027920" y="1973160"/>
            <a:ext cx="0" cy="45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16"/>
          <p:cNvSpPr/>
          <p:nvPr/>
        </p:nvSpPr>
        <p:spPr>
          <a:xfrm>
            <a:off x="6134040" y="1973160"/>
            <a:ext cx="0" cy="45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7"/>
          <p:cNvSpPr/>
          <p:nvPr/>
        </p:nvSpPr>
        <p:spPr>
          <a:xfrm>
            <a:off x="4991040" y="1973160"/>
            <a:ext cx="0" cy="45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8"/>
          <p:cNvSpPr/>
          <p:nvPr/>
        </p:nvSpPr>
        <p:spPr>
          <a:xfrm>
            <a:off x="795240" y="205884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909720" y="257328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896760" y="311940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1"/>
          <p:cNvSpPr/>
          <p:nvPr/>
        </p:nvSpPr>
        <p:spPr>
          <a:xfrm>
            <a:off x="884160" y="363384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22"/>
          <p:cNvSpPr/>
          <p:nvPr/>
        </p:nvSpPr>
        <p:spPr>
          <a:xfrm>
            <a:off x="873000" y="412920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23"/>
          <p:cNvSpPr/>
          <p:nvPr/>
        </p:nvSpPr>
        <p:spPr>
          <a:xfrm>
            <a:off x="885960" y="465624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24"/>
          <p:cNvSpPr/>
          <p:nvPr/>
        </p:nvSpPr>
        <p:spPr>
          <a:xfrm>
            <a:off x="879480" y="510696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25"/>
          <p:cNvSpPr/>
          <p:nvPr/>
        </p:nvSpPr>
        <p:spPr>
          <a:xfrm>
            <a:off x="1302480" y="2071800"/>
            <a:ext cx="14968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26"/>
          <p:cNvSpPr/>
          <p:nvPr/>
        </p:nvSpPr>
        <p:spPr>
          <a:xfrm>
            <a:off x="4941720" y="2065320"/>
            <a:ext cx="12578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27"/>
          <p:cNvSpPr/>
          <p:nvPr/>
        </p:nvSpPr>
        <p:spPr>
          <a:xfrm>
            <a:off x="6199560" y="2071800"/>
            <a:ext cx="7488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28"/>
          <p:cNvSpPr/>
          <p:nvPr/>
        </p:nvSpPr>
        <p:spPr>
          <a:xfrm>
            <a:off x="7038000" y="2065320"/>
            <a:ext cx="951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9"/>
          <p:cNvSpPr/>
          <p:nvPr/>
        </p:nvSpPr>
        <p:spPr>
          <a:xfrm>
            <a:off x="7932960" y="2071800"/>
            <a:ext cx="7455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30"/>
          <p:cNvSpPr/>
          <p:nvPr/>
        </p:nvSpPr>
        <p:spPr>
          <a:xfrm>
            <a:off x="1263240" y="2490840"/>
            <a:ext cx="26902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 := length(Input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: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31"/>
          <p:cNvSpPr/>
          <p:nvPr/>
        </p:nvSpPr>
        <p:spPr>
          <a:xfrm>
            <a:off x="6143760" y="2611440"/>
            <a:ext cx="187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32"/>
          <p:cNvSpPr/>
          <p:nvPr/>
        </p:nvSpPr>
        <p:spPr>
          <a:xfrm>
            <a:off x="7286760" y="2604960"/>
            <a:ext cx="187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33"/>
          <p:cNvSpPr/>
          <p:nvPr/>
        </p:nvSpPr>
        <p:spPr>
          <a:xfrm>
            <a:off x="8104320" y="2592360"/>
            <a:ext cx="187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34"/>
          <p:cNvSpPr/>
          <p:nvPr/>
        </p:nvSpPr>
        <p:spPr>
          <a:xfrm>
            <a:off x="1260720" y="3138480"/>
            <a:ext cx="872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35"/>
          <p:cNvSpPr/>
          <p:nvPr/>
        </p:nvSpPr>
        <p:spPr>
          <a:xfrm>
            <a:off x="1247400" y="3633840"/>
            <a:ext cx="28458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Input[Length-1] = 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36"/>
          <p:cNvSpPr/>
          <p:nvPr/>
        </p:nvSpPr>
        <p:spPr>
          <a:xfrm>
            <a:off x="1245600" y="4167360"/>
            <a:ext cx="30240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 := Length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7"/>
          <p:cNvSpPr/>
          <p:nvPr/>
        </p:nvSpPr>
        <p:spPr>
          <a:xfrm>
            <a:off x="5203800" y="3639960"/>
            <a:ext cx="707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8"/>
          <p:cNvSpPr/>
          <p:nvPr/>
        </p:nvSpPr>
        <p:spPr>
          <a:xfrm>
            <a:off x="1251000" y="4643280"/>
            <a:ext cx="36291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State &lt; 2 State:=State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9"/>
          <p:cNvSpPr/>
          <p:nvPr/>
        </p:nvSpPr>
        <p:spPr>
          <a:xfrm>
            <a:off x="1260720" y="5113440"/>
            <a:ext cx="20379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 State :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0"/>
          <p:cNvSpPr/>
          <p:nvPr/>
        </p:nvSpPr>
        <p:spPr>
          <a:xfrm>
            <a:off x="1262880" y="5608800"/>
            <a:ext cx="29358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il State=3 or Length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1"/>
          <p:cNvSpPr/>
          <p:nvPr/>
        </p:nvSpPr>
        <p:spPr>
          <a:xfrm>
            <a:off x="5178600" y="5621400"/>
            <a:ext cx="6192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42"/>
          <p:cNvSpPr/>
          <p:nvPr/>
        </p:nvSpPr>
        <p:spPr>
          <a:xfrm>
            <a:off x="811080" y="505764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43"/>
          <p:cNvSpPr/>
          <p:nvPr/>
        </p:nvSpPr>
        <p:spPr>
          <a:xfrm>
            <a:off x="811080" y="457200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44"/>
          <p:cNvSpPr/>
          <p:nvPr/>
        </p:nvSpPr>
        <p:spPr>
          <a:xfrm>
            <a:off x="8164440" y="511020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5"/>
          <p:cNvSpPr/>
          <p:nvPr/>
        </p:nvSpPr>
        <p:spPr>
          <a:xfrm>
            <a:off x="6200280" y="3164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…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6"/>
          <p:cNvSpPr/>
          <p:nvPr/>
        </p:nvSpPr>
        <p:spPr>
          <a:xfrm>
            <a:off x="7429680" y="3164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47"/>
          <p:cNvSpPr/>
          <p:nvPr/>
        </p:nvSpPr>
        <p:spPr>
          <a:xfrm>
            <a:off x="8286840" y="3149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48"/>
          <p:cNvSpPr/>
          <p:nvPr/>
        </p:nvSpPr>
        <p:spPr>
          <a:xfrm>
            <a:off x="876240" y="560556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04680" y="83952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ifying Program Correct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891720" y="165096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ectness verification methods treat programs as mathematical theor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methods are particularly useful during design and design revie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cause program verification often involves sophisticated reasoning, it is important to check your work careful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87040" y="83808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ctness Verifica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901800" y="165564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verify a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ll of the program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each verification question while reviewing each non-trivial constr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the answer is not obvious, use a trace table to evaluate the conditions that the program must satisf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this verification approach works with most design constructs, only “while loops” are described in this le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ofs for repeat-until and for-loops are described in the textbook (pages 271 - 277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09360" y="83808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Loop Verification -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891720" y="1641240"/>
            <a:ext cx="7410600" cy="6030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hileLoop is assumed to have the following 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5" descr="s34"/>
          <p:cNvPicPr/>
          <p:nvPr/>
        </p:nvPicPr>
        <p:blipFill>
          <a:blip r:embed="rId1"/>
          <a:stretch/>
        </p:blipFill>
        <p:spPr>
          <a:xfrm>
            <a:off x="1057320" y="2390760"/>
            <a:ext cx="371160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03240" y="844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Loop Verification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914400" y="1650960"/>
            <a:ext cx="70992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while-loop is correct if all of the following questions can be answered with “yes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 1: Is loop termination guaranteed for any argument of WhileTe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 2: When WhileTest is true, does WhileLoop = LoopPart followed by WhileLoo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 3: When WhileTest is false, does WhileLoop = identit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04680" y="83808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Loop Example -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915480" y="1642680"/>
            <a:ext cx="7410600" cy="5317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ing n &gt; 0, calculate 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5" descr="s36"/>
          <p:cNvPicPr/>
          <p:nvPr/>
        </p:nvPicPr>
        <p:blipFill>
          <a:blip r:embed="rId1"/>
          <a:stretch/>
        </p:blipFill>
        <p:spPr>
          <a:xfrm>
            <a:off x="1533600" y="2411280"/>
            <a:ext cx="3627360" cy="21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03240" y="84276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Loop Exampl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907560" y="1647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 1: Is loop termination guaranteed for any argument of WhileTe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5280" indent="-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es, the loop terminates whe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 = n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Sinc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teps inside the loop, it will terminate as long a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 &gt; 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 2: When WhileTest is true, is WhileLoop = LoopPart followed by WhileLoo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5280" indent="-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es, the LoopPart increment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set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qual to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 * i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o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still equal to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5280" indent="-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5280" indent="-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e: The initial conditions ensure tha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 = i!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itial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01440" y="8442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Loop Example 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899640" y="164448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 3: When WhileTest is false, does WhileLoop = identit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1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es, when WhileTest is false, the loop terminates without further changes to any variables, so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 = 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 = i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1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1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nce, we can deduce tha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 = n!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requi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06200" y="89964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other WhileLoop Exampl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009440" y="1733040"/>
            <a:ext cx="7413480" cy="11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a valu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an array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[0 .. n-1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at is sorted in ascending order, verify that the following binary search algorithm finds the smallest index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≤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[i]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5" descr="s39"/>
          <p:cNvPicPr/>
          <p:nvPr/>
        </p:nvPicPr>
        <p:blipFill>
          <a:blip r:embed="rId1"/>
          <a:stretch/>
        </p:blipFill>
        <p:spPr>
          <a:xfrm>
            <a:off x="1293840" y="3038400"/>
            <a:ext cx="354312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71200" y="82836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for Design Verification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89964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improve design-review yield, you must use disciplined verification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orderly approach to design verification is essential beca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common design defects are caused by overlooked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tuations that seem unlikely become more likely with complex systems and high-powered comput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itions that were initially impossible may be likely after a program is modif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other WhileLoop Exampl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-360" y="1550880"/>
            <a:ext cx="7413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formal specification is incomple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should happen i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 = 0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empty array)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should happen i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 &gt; a[n-1]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can formalize the specification 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7"/>
          <p:cNvSpPr/>
          <p:nvPr/>
        </p:nvSpPr>
        <p:spPr>
          <a:xfrm>
            <a:off x="1008000" y="5057640"/>
            <a:ext cx="741384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 &gt; a[n-1]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 the desired result i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 = 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buClr>
                <a:srgbClr val="000000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 = 0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 the desired result i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 = 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33" descr="s40"/>
          <p:cNvPicPr/>
          <p:nvPr/>
        </p:nvPicPr>
        <p:blipFill>
          <a:blip r:embed="rId1"/>
          <a:stretch/>
        </p:blipFill>
        <p:spPr>
          <a:xfrm>
            <a:off x="1022400" y="3060720"/>
            <a:ext cx="7943760" cy="18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06200" y="90936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other WhileLoop Example 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017360" y="169848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use case checking, we should consider cases wh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equal to the first element of the arra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equal to any intermediate element of the arr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equal to the final element of the arr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not equal to any e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, we look a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not equal to any el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the array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&lt;2, 3, 5, 7&gt; with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4 an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96840" y="90936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hileLoop Trace 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6" name="Object 14"/>
          <p:cNvGraphicFramePr/>
          <p:nvPr/>
        </p:nvGraphicFramePr>
        <p:xfrm>
          <a:off x="1719360" y="1503360"/>
          <a:ext cx="5684760" cy="41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7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9360" y="1503360"/>
                    <a:ext cx="568476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015920" y="90936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ification Discu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1000080" y="1695240"/>
            <a:ext cx="73994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lgorithm fails to terminate for this set of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race table will reveal design defects, but it does not suggest how to fix th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lgorithm correction is to replac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 = 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 = k +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this change, the next step would be to answer the three WhileLoop questions, with a trace table if necessa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96480" y="909360"/>
            <a:ext cx="76359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ents: Program Verif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002960" y="171108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done correctly, these verification methods can guarantee program correctn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y of these verification methods requires skill and pract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oop termination test is critical because endless loops are hard to identify with other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you can often answer the verification questions by inspection, when in doubt, check the results with a trace 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81000" y="9028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and Verification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1014120" y="171756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phical designs can be difficult to verify and often require special c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ML diagrams can and should be checked for consistenc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s of all classes, operations, and attributes should also be defined and used consisten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ML state charts can be verified as shown before, but the state and transition conditions must be explic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87120" y="89964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L and Verification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99828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ecution in UML sequence diagrams can be traced if the diagrams are sufficiently detail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arly, every message sent between objects must be supported by a traversable link defined in a class dia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UML tools can simulate execution of UML models, but these tools should be used only after other review techn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76240" y="83952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901800" y="165564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significantly improve your design-review yield by using disciplined design review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complex programs, the time spent verifying designs will be more than repaid by the testing time sav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actice using verification techniques and then select the most effective ones for finding the defects that you most commonly find in tes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65080" y="830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s of Design Verif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896400" y="165096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following a structured design verification procedure, you are more likely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 overlooked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rarely-exposed ri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possible future expo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recording information during each design review, you can improve the effectiveness of later design inspe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71200" y="82548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Design Verif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94960" y="165240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4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verification methods should be used du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re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insp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ifying designs with source-code is time-consuming and error-pr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design verification methods to focus on the defect types that cause you the most trouble in t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your data to decide which verification methods are most effective for yo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90280" y="82548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bolic Execution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905040" y="1647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2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symbolic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gram is represented symbol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 behavior is examined analyt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ough not always practical, symbolic execution can produce a comprehensive verifi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pproach is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algebraic symbols to the program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tate the program as one or more equations using these symb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ze the behavior of the equ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71200" y="8413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bolic Execution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87912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questions to ask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the program converge on a resul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the program behave properly with both normal and abnormal input valu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the program always produce the desired resul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71200" y="8190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bolic Execution Exampl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878040" y="1654200"/>
            <a:ext cx="7410240" cy="5047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ine the following program seg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844560" y="4235400"/>
            <a:ext cx="7539120" cy="15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be the result for various values of X and Y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his simple example merely illustrates how symbolic execution can reveal non-obvious function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6" descr="s9"/>
          <p:cNvPicPr/>
          <p:nvPr/>
        </p:nvPicPr>
        <p:blipFill>
          <a:blip r:embed="rId1"/>
          <a:stretch/>
        </p:blipFill>
        <p:spPr>
          <a:xfrm>
            <a:off x="1725480" y="2293920"/>
            <a:ext cx="5639040" cy="153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5:24Z</dcterms:modified>
  <cp:revision>179</cp:revision>
  <dc:subject/>
  <dc:title>No Slide Title</dc:title>
</cp:coreProperties>
</file>